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A13C-B77B-4A34-9DD6-1DDEFC0CE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23DB-E2C7-4AE1-B365-0A77A4355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216B-99F5-488E-A518-100FD7DAE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AFCF-CCB7-4409-B818-D8EAE1967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41CD-E627-43C2-8B9D-2D59CEDE6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4D3C-EFC1-4A59-8A6F-BA3E3C5B4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BAF4-0888-4CCE-BEFA-74D485DCA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9374-B4CD-4BFC-8430-BD9E86FFE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E71C-7EF8-42D4-AF5D-30A86D662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6278-82F0-4FC8-99F8-B6339DA4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29DA-DA78-49BE-8752-388DC08E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DADA-110D-4CB4-9B29-F52BDA6B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efd03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76320">
            <a:solidFill>
              <a:srgbClr val="6efd03"/>
            </a:solidFill>
            <a:miter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lvl="1" marL="542160" indent="-2084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lvl="2" marL="834120" indent="-1666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lvl="3" marL="1167840" indent="-16668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lvl="4" marL="1501560" indent="-16668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lvl="5" marL="1501560" indent="-16668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lvl="6" marL="1501560" indent="-16668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4810F-973B-4918-8A2A-80DA9698F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earcubscience.wikispaces.com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solidFill>
            <a:srgbClr val="6efd03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Good Morning </a:t>
            </a: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solidFill>
            <a:srgbClr val="ffffff"/>
          </a:solidFill>
          <a:ln w="76320">
            <a:solidFill>
              <a:srgbClr val="6efd03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hursday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pril 29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efd03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TUDY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76320">
            <a:solidFill>
              <a:srgbClr val="6efd0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he first three rows of the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periodic tabl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Know the 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Chemical Symbol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of Element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efd03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Atom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76320">
            <a:solidFill>
              <a:srgbClr val="6efd0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Comic Sans MS"/>
              </a:rPr>
              <a:t>Protons</a:t>
            </a:r>
            <a:r>
              <a:rPr b="0" lang="en-US" sz="4800" spc="-1" strike="noStrike">
                <a:solidFill>
                  <a:srgbClr val="003366"/>
                </a:solidFill>
                <a:latin typeface="Comic Sans MS"/>
              </a:rPr>
              <a:t> = Positive Charge (Nucleus)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Neutrons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= Neutral Charge (Nucleus)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Comic Sans MS"/>
              </a:rPr>
              <a:t>Electrons</a:t>
            </a:r>
            <a:r>
              <a:rPr b="0" lang="en-US" sz="4800" spc="-1" strike="noStrike">
                <a:solidFill>
                  <a:srgbClr val="800000"/>
                </a:solidFill>
                <a:latin typeface="Comic Sans MS"/>
              </a:rPr>
              <a:t> = Negative Charge (Outside)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2210040"/>
          </a:xfrm>
          <a:prstGeom prst="rect">
            <a:avLst/>
          </a:prstGeom>
          <a:solidFill>
            <a:srgbClr val="6efd03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How many more days of school left?????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efd03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cience Fair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76320">
            <a:solidFill>
              <a:srgbClr val="6efd0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u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Friday May 7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po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ork Cit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lide Show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ar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pload on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www.bearcubscience.wikispaces.c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6efd03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torm Chaser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09480" y="392436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9T11:41:39Z</dcterms:created>
  <dc:creator>Sterling Grade School</dc:creator>
  <dc:description/>
  <dc:language>en-US</dc:language>
  <cp:lastModifiedBy>Sterling Grade School</cp:lastModifiedBy>
  <dcterms:modified xsi:type="dcterms:W3CDTF">2010-04-29T14:38:19Z</dcterms:modified>
  <cp:revision>2</cp:revision>
  <dc:subject/>
  <dc:title>Good Morning </dc:title>
</cp:coreProperties>
</file>